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AD515D-B065-4C7E-B622-1D6070B9A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775E17-7348-4EE3-BC48-3BA78DFB3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D14FB9-D436-4A9A-9512-C3133ACE35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DD910E-65A8-44F7-9421-2292B5FCB3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9D0F7-1AD7-4375-B4BF-A76D604F0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2E69E-4319-4DEE-913D-25AA1359C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E498-FDB3-47A2-B29C-A91D2DD78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84493-469E-45C1-922A-19FAD6210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17C61-35D5-458E-BF25-E52EA33E2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9AF4A-763F-4013-A94E-7ADE2AB61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6298-445A-4D20-8EE0-39993817E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4E8EF1-E2A1-4EE1-9D90-86B0DD49B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DC0EF-F2D2-44DD-8961-A4180F41B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9E7F8-0528-4F49-B6BD-07186D0C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77A5-C0C6-463E-ADCF-557161AE7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1F7A7-9412-43FA-9E0F-5DDF04B8E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52A09-FD69-4E28-9038-3C8556975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18377-D598-4871-AA81-3CC2E0DC0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06E60C-555C-4D1C-9FE4-7BC3D95AD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BD5CAD-66C2-4962-9BE2-43EBC4DC4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799CD6-97F1-46BE-85C3-54E646BE1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DFAC9-ABB1-4F0D-BE40-879CF6D08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812CA-392D-4E44-897B-B05B99F9A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EFFF8F-2263-44B3-B789-1D7DEF981C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A3B5-06E4-4EFD-894F-F6962D33307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4B5B-36FD-4623-AADE-02531C175B2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BERLIN BLOCKADE AND AIRLIFT</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June 1948- May 194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189000"/>
            <a:ext cx="7488360" cy="666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background to the crisis</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48: USA, Britain, France join their 3 zones together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ies were planning to introduce new currency to aid recovery in their sector, including West Berli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lin did not want a prosperous Germany </a:t>
            </a:r>
            <a:r>
              <a:rPr b="0" lang="en-US" sz="2800" spc="-1" strike="noStrike">
                <a:solidFill>
                  <a:srgbClr val="ffffff"/>
                </a:solidFill>
                <a:latin typeface="Wingdings"/>
                <a:ea typeface="Wingdings"/>
              </a:rPr>
              <a:t></a:t>
            </a:r>
            <a:r>
              <a:rPr b="0" lang="en-US" sz="2800" spc="-1" strike="noStrike">
                <a:solidFill>
                  <a:srgbClr val="ffffff"/>
                </a:solidFill>
                <a:latin typeface="Tahoma"/>
              </a:rPr>
              <a:t> saw it as a threat to the Soviet Unio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24</a:t>
            </a:r>
            <a:r>
              <a:rPr b="0" lang="en-US" sz="2800" spc="-1" strike="noStrike" baseline="30000">
                <a:solidFill>
                  <a:srgbClr val="ffffff"/>
                </a:solidFill>
                <a:latin typeface="Tahoma"/>
              </a:rPr>
              <a:t>th</a:t>
            </a:r>
            <a:r>
              <a:rPr b="0" lang="en-US" sz="2800" spc="-1" strike="noStrike">
                <a:solidFill>
                  <a:srgbClr val="ffffff"/>
                </a:solidFill>
                <a:latin typeface="Tahoma"/>
              </a:rPr>
              <a:t> June 1948 he closed all roads, canals and railways between the West of Germany and West Berlin – effectively cutting off West Berli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The background to the crisis</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air corridors remained open for the allies to fly in supplies to the people of West Berli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ense cold war crisis had begu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ask: A diary of the blockade</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 16 year old, living in West Berlin in 1948. Write a diary entry for 24</a:t>
            </a:r>
            <a:r>
              <a:rPr b="0" lang="en-US" sz="2800" spc="-1" strike="noStrike" baseline="30000">
                <a:solidFill>
                  <a:srgbClr val="ffffff"/>
                </a:solidFill>
                <a:latin typeface="Tahoma"/>
              </a:rPr>
              <a:t>th</a:t>
            </a:r>
            <a:r>
              <a:rPr b="0" lang="en-US" sz="2800" spc="-1" strike="noStrike">
                <a:solidFill>
                  <a:srgbClr val="ffffff"/>
                </a:solidFill>
                <a:latin typeface="Tahoma"/>
              </a:rPr>
              <a:t> June 194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is entry you should describe your feelings as you hear that your city has been cut off from the West. Why do you think Stalin has done this? Where are you going to get supplies of food and fuel from? What are your fears for the future if no-one intervenes to help West Berlin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y 2: 26th December 1948</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lockade has been in force for over 6 months, how have the people of West Berlin survived? Describe the heroic exploits of the US and British pilots keeping the people fed and supplied during this time. How much longer can this go on for? How did you celebrate Christmas day?</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your thoughts as you hear that one of your close friends has decided to go the East, enticed by the promise of extra rations. What do you think life will be like over there?</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90792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ry 3: 5</a:t>
            </a:r>
            <a:r>
              <a:rPr b="0" lang="en-US" sz="3200" spc="-1" strike="noStrike" baseline="30000">
                <a:solidFill>
                  <a:srgbClr val="ffffff"/>
                </a:solidFill>
                <a:latin typeface="Tahoma"/>
              </a:rPr>
              <a:t>th</a:t>
            </a:r>
            <a:r>
              <a:rPr b="0" lang="en-US" sz="3200" spc="-1" strike="noStrike">
                <a:solidFill>
                  <a:srgbClr val="ffffff"/>
                </a:solidFill>
                <a:latin typeface="Tahoma"/>
              </a:rPr>
              <a:t> May 1949</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have just heard that Stalin has called off the blockad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you think he has been forced to back dow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you feel that this has been a victory for the We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the human cost of keeping you alive over the past month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DIVISION OF GERMANY</a:t>
            </a:r>
            <a:endParaRPr b="0" lang="en-US" sz="4200" spc="-1" strike="noStrike">
              <a:solidFill>
                <a:srgbClr val="ffffcc"/>
              </a:solidFill>
              <a:latin typeface="Tahoma"/>
            </a:endParaRPr>
          </a:p>
        </p:txBody>
      </p:sp>
      <p:sp>
        <p:nvSpPr>
          <p:cNvPr id="138" name="PlaceHolder 2"/>
          <p:cNvSpPr>
            <a:spLocks noGrp="1"/>
          </p:cNvSpPr>
          <p:nvPr>
            <p:ph/>
          </p:nvPr>
        </p:nvSpPr>
        <p:spPr>
          <a:xfrm>
            <a:off x="468360" y="1267920"/>
            <a:ext cx="8229600" cy="5257800"/>
          </a:xfrm>
          <a:prstGeom prst="rect">
            <a:avLst/>
          </a:prstGeom>
          <a:noFill/>
          <a:ln w="0">
            <a:noFill/>
          </a:ln>
        </p:spPr>
        <p:txBody>
          <a:bodyPr lIns="90000" rIns="90000" tIns="46800" bIns="46800"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eeks later, on the 23</a:t>
            </a:r>
            <a:r>
              <a:rPr b="0" lang="en-US" sz="3200" spc="-1" strike="noStrike" baseline="30000">
                <a:solidFill>
                  <a:srgbClr val="ffffff"/>
                </a:solidFill>
                <a:latin typeface="Tahoma"/>
              </a:rPr>
              <a:t>rd </a:t>
            </a:r>
            <a:r>
              <a:rPr b="0" lang="en-US" sz="3200" spc="-1" strike="noStrike">
                <a:solidFill>
                  <a:srgbClr val="ffffff"/>
                </a:solidFill>
                <a:latin typeface="Tahoma"/>
              </a:rPr>
              <a:t> May 1949 the three Western zones including West Berlin became known as the Federal Republic of Germany (WEST GERMANY)</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ew months later, on the 5</a:t>
            </a:r>
            <a:r>
              <a:rPr b="0" lang="en-US" sz="3200" spc="-1" strike="noStrike" baseline="30000">
                <a:solidFill>
                  <a:srgbClr val="ffffff"/>
                </a:solidFill>
                <a:latin typeface="Tahoma"/>
              </a:rPr>
              <a:t>th</a:t>
            </a:r>
            <a:r>
              <a:rPr b="0" lang="en-US" sz="3200" spc="-1" strike="noStrike">
                <a:solidFill>
                  <a:srgbClr val="ffffff"/>
                </a:solidFill>
                <a:latin typeface="Tahoma"/>
              </a:rPr>
              <a:t> October the Soviet zone was renamed the German Democratic Republic (EAST GERMANY)</a:t>
            </a:r>
            <a:endParaRPr b="0" lang="en-US" sz="32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division of Germany had become permanent. It would take until 1989 for the two Germanys to reun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0:21:07Z</dcterms:created>
  <dc:creator>Userj.walker</dc:creator>
  <dc:description/>
  <dc:language>en-US</dc:language>
  <cp:lastModifiedBy>vanweringhdoulisi</cp:lastModifiedBy>
  <dcterms:modified xsi:type="dcterms:W3CDTF">2009-07-29T01:23:19Z</dcterms:modified>
  <cp:revision>6</cp:revision>
  <dc:subject/>
  <dc:title>THE BERLIN BLOCKADE AND AIRLIFT 1948-9</dc:title>
</cp:coreProperties>
</file>